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E4E8C-B6C3-4C2B-AC9D-6E3FD2EAB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6D21E-8A04-4B08-9686-0DBB5EC9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D9451-C23B-4CF8-A6C7-567DC8262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D2837-7690-4A70-AFE9-C80DEA524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42EF5-81D4-4077-894F-036104A8F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B73D5-E101-43FE-AC98-FEAD87A17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C98D1-392F-4649-B256-FEA80DCE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16BAF-6C46-4525-9BAE-63EEF7408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1098-9EB5-4F06-AE13-1C20884E7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6A28F-3449-4819-A809-A2E0757F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33776-B13A-418F-A284-699DF50FF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F14ED-594C-49F8-B395-393238D59C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784A-668E-49B6-B83B-9C9C40B13654}"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6</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857160" y="1285920"/>
          <a:ext cx="7358040" cy="4844880"/>
        </p:xfrm>
        <a:graphic>
          <a:graphicData uri="http://schemas.openxmlformats.org/drawingml/2006/table">
            <a:tbl>
              <a:tblPr/>
              <a:tblGrid>
                <a:gridCol w="2619360"/>
                <a:gridCol w="2619360"/>
                <a:gridCol w="1122480"/>
                <a:gridCol w="996840"/>
              </a:tblGrid>
              <a:tr h="823320">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ЛЕК</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НДИКАЦИЈ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НАЧИН ПРИМЕНЕ</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ОЗ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ртизол (хидрокорт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дисонова болес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мг/12</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noFill/>
                  </a:tcPr>
                </a:tc>
              </a:tr>
              <a:tr h="1017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Хидрокортизон-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ctr" pos="2743200"/>
                          <a:tab algn="r"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дисонска криза (акутна инсуфицијенција коре надбубре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 мг/6</a:t>
                      </a:r>
                      <a:r>
                        <a:rPr b="0" lang="sr-CS" sz="1800" spc="-1" strike="noStrike">
                          <a:solidFill>
                            <a:srgbClr val="000000"/>
                          </a:solidFill>
                          <a:latin typeface="Times New Roman"/>
                          <a:ea typeface="Times New Roman"/>
                        </a:rPr>
                        <a:t> часова</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rowSpan="2">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Предни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Бронхијална астм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Системски лупус еритематоде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орално</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67896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Метилпреднизолон - На сукцинат</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Анафилактички шок</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в.</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 мг</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noFill/>
                  </a:tcPr>
                </a:tc>
              </a:tr>
              <a:tr h="549000">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Дексаметазон</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Едем мозг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и.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10800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 мг/дан</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Times New Roman"/>
                <a:ea typeface="Times New Roman"/>
              </a:rPr>
              <a:t>Афтозни стоматитис</a:t>
            </a:r>
            <a:endParaRPr b="0" lang="en-US" sz="4400" spc="-1" strike="noStrike">
              <a:solidFill>
                <a:srgbClr val="000000"/>
              </a:solidFill>
              <a:latin typeface="Comic Sans MS"/>
            </a:endParaRPr>
          </a:p>
        </p:txBody>
      </p:sp>
      <p:sp>
        <p:nvSpPr>
          <p:cNvPr id="61" name="Rectangle 1"/>
          <p:cNvSpPr/>
          <p:nvPr/>
        </p:nvSpPr>
        <p:spPr>
          <a:xfrm>
            <a:off x="285840" y="194400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Афтозни стоматитис. </a:t>
            </a:r>
            <a:r>
              <a:rPr b="0" lang="sr-CS" sz="2400" spc="-1" strike="noStrike">
                <a:solidFill>
                  <a:srgbClr val="000000"/>
                </a:solidFill>
                <a:latin typeface="Times New Roman"/>
                <a:ea typeface="Times New Roman"/>
              </a:rPr>
              <a:t> Афтозни стоматитис представља упалу слузокоже усне дупље са појавом болних улкуса (чирева) прекривених белим слојем фибрина. Пошто је афтозни стоматитис последица упале без инфекције, примена кортикостероида због њиховог антиинфламаторног дејства доводи до брзог излечења. Најчешће се кортикостероиди примењују локално на саме афте, у виду гела који садржи флуоцинонид, триамцинолон или клобетазол. Гел се примењује између оброка, 2 до 3 пута дневн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Примена после денто-алвеоларних операција</a:t>
            </a:r>
            <a:endParaRPr b="0" lang="en-US" sz="4400" spc="-1" strike="noStrike">
              <a:solidFill>
                <a:srgbClr val="000000"/>
              </a:solidFill>
              <a:latin typeface="Comic Sans MS"/>
            </a:endParaRPr>
          </a:p>
        </p:txBody>
      </p:sp>
      <p:sp>
        <p:nvSpPr>
          <p:cNvPr id="63" name="Rectangle 2"/>
          <p:cNvSpPr/>
          <p:nvPr/>
        </p:nvSpPr>
        <p:spPr>
          <a:xfrm>
            <a:off x="785880" y="2143080"/>
            <a:ext cx="69292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Свака операција у усној дупљи је праћена отоком и трансудацијом течности кроз отворе на слузокожи. Да би се смањили оток и трансудација, после операције пацијентима се одмах даје неки од кортикостероида парентерално, у виду интрамускуларне ињекције. Најчешће се користи дексаметазон, али се у његовом недостатку може применити и метилпреднизолон. Оваква примена кортикостероида је веома ефикасна, и без значајнијих нежељених дејстав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Мукокеле</a:t>
            </a:r>
            <a:r>
              <a:rPr b="0" lang="sr-C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65" name="Rectangle 2"/>
          <p:cNvSpPr/>
          <p:nvPr/>
        </p:nvSpPr>
        <p:spPr>
          <a:xfrm>
            <a:off x="571680" y="282888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Мукокеле су цисте које настају испод слузокоже у усној дупљи, највише на непцу. Оне се могу успешно лечити убризгавање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Ендодонтски бол</a:t>
            </a:r>
            <a:endParaRPr b="0" lang="en-US" sz="4400" spc="-1" strike="noStrike">
              <a:solidFill>
                <a:srgbClr val="000000"/>
              </a:solidFill>
              <a:latin typeface="Comic Sans MS"/>
            </a:endParaRPr>
          </a:p>
        </p:txBody>
      </p:sp>
      <p:sp>
        <p:nvSpPr>
          <p:cNvPr id="67" name="Rectangle 2"/>
          <p:cNvSpPr/>
          <p:nvPr/>
        </p:nvSpPr>
        <p:spPr>
          <a:xfrm>
            <a:off x="571680" y="1996920"/>
            <a:ext cx="7858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сле инструменталног или хемијског лечења канала у корену зуба, због јаке инфламације пацијенти трпе изузетно јак бол. Ако се приликом интервенције на корену у сам канал корена зуба убризга мала  количина триамцинолон ацетонида, он ће смањити упалу и спречити настанак јаког боле после интервен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Артритис темпоромандибуларног зглоба</a:t>
            </a:r>
            <a:endParaRPr b="0" lang="en-US" sz="4400" spc="-1" strike="noStrike">
              <a:solidFill>
                <a:srgbClr val="000000"/>
              </a:solidFill>
              <a:latin typeface="Comic Sans MS"/>
            </a:endParaRPr>
          </a:p>
        </p:txBody>
      </p:sp>
      <p:sp>
        <p:nvSpPr>
          <p:cNvPr id="69" name="Rectangle 2"/>
          <p:cNvSpPr/>
          <p:nvPr/>
        </p:nvSpPr>
        <p:spPr>
          <a:xfrm>
            <a:off x="1000080" y="2000160"/>
            <a:ext cx="7072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Упала зглоба којим је доња вилица спојена са слепоочном кости може настати као део неке системске инфламаторне болести (нпр. реуматоидног артритиса) или као последица дегенеративног оштећења хрскавице зглоба. Пацијенти онда имају проблема са жвакањем, које је болно. Кортикостероиди се тада могу убризгати директно у зглоб; после једног убризгавања повољни ефекти трају и до годину дана. Најчешће се убризгавају бетаметазон ацетат, триамцинолон ацетонид или метилпреднизолон ацета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Булозни пемфигоид</a:t>
            </a:r>
            <a:endParaRPr b="0" lang="en-US" sz="4400" spc="-1" strike="noStrike">
              <a:solidFill>
                <a:srgbClr val="000000"/>
              </a:solidFill>
              <a:latin typeface="Comic Sans MS"/>
            </a:endParaRPr>
          </a:p>
        </p:txBody>
      </p:sp>
      <p:sp>
        <p:nvSpPr>
          <p:cNvPr id="71" name="Rectangle 2"/>
          <p:cNvSpPr/>
          <p:nvPr/>
        </p:nvSpPr>
        <p:spPr>
          <a:xfrm>
            <a:off x="928800" y="2274840"/>
            <a:ext cx="7358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улозни пемфигоид је аутоимуна болест код које долази до настанка огромних пликова (була) у усној дупљи. Ови пликови прскају и стављају рањаву и болну површину. Булозни пемфогоид се са успехом може лечити системском или локалном применом кортикостероид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 - дефиниција</a:t>
            </a:r>
            <a:endParaRPr b="0" lang="en-US" sz="4400" spc="-1" strike="noStrike">
              <a:solidFill>
                <a:srgbClr val="000000"/>
              </a:solidFill>
              <a:latin typeface="Comic Sans MS"/>
            </a:endParaRPr>
          </a:p>
        </p:txBody>
      </p:sp>
      <p:sp>
        <p:nvSpPr>
          <p:cNvPr id="73" name="Rectangle 2"/>
          <p:cNvSpPr/>
          <p:nvPr/>
        </p:nvSpPr>
        <p:spPr>
          <a:xfrm>
            <a:off x="714240" y="1720800"/>
            <a:ext cx="7786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Ињекције су стерилни течни лековити препарати, максималне запремине до 100 мл, који се примењују парентерално. По свом карактеру, ињекције могу бити раствори, емулзије или суспензије. Ако је подлога ињекције вода, она мора бити стерилна (</a:t>
            </a:r>
            <a:r>
              <a:rPr b="1" lang="it-IT" sz="2400" spc="-1" strike="noStrike">
                <a:solidFill>
                  <a:srgbClr val="000000"/>
                </a:solidFill>
                <a:latin typeface="Arial"/>
              </a:rPr>
              <a:t>Aqua pro injectione</a:t>
            </a:r>
            <a:r>
              <a:rPr b="0" lang="it-IT" sz="2400" spc="-1" strike="noStrike">
                <a:solidFill>
                  <a:srgbClr val="000000"/>
                </a:solidFill>
                <a:latin typeface="Arial"/>
              </a:rPr>
              <a:t>). Када је главни лек липофилан, подлога је обично неутрализовано маслиново уље (</a:t>
            </a:r>
            <a:r>
              <a:rPr b="1" lang="it-IT" sz="2400" spc="-1" strike="noStrike">
                <a:solidFill>
                  <a:srgbClr val="000000"/>
                </a:solidFill>
                <a:latin typeface="Arial"/>
              </a:rPr>
              <a:t>Oleum olivae neutralisatum</a:t>
            </a:r>
            <a:r>
              <a:rPr b="0" lang="it-IT" sz="2400" spc="-1" strike="noStrike">
                <a:solidFill>
                  <a:srgbClr val="000000"/>
                </a:solidFill>
                <a:latin typeface="Arial"/>
              </a:rPr>
              <a:t>) које се такође мора стерилиса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Ињекције</a:t>
            </a:r>
            <a:endParaRPr b="0" lang="en-US" sz="4400" spc="-1" strike="noStrike">
              <a:solidFill>
                <a:srgbClr val="000000"/>
              </a:solidFill>
              <a:latin typeface="Comic Sans MS"/>
            </a:endParaRPr>
          </a:p>
        </p:txBody>
      </p:sp>
      <p:sp>
        <p:nvSpPr>
          <p:cNvPr id="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6" name="Object 1"/>
          <p:cNvGraphicFramePr/>
          <p:nvPr/>
        </p:nvGraphicFramePr>
        <p:xfrm>
          <a:off x="698400" y="2214720"/>
          <a:ext cx="7629480" cy="3643200"/>
        </p:xfrm>
        <a:graphic>
          <a:graphicData uri="http://schemas.openxmlformats.org/presentationml/2006/ole">
            <p:oleObj r:id="rId1" spid="">
              <p:embed/>
              <p:pic>
                <p:nvPicPr>
                  <p:cNvPr id="77" name="Object 1" descr=""/>
                  <p:cNvPicPr/>
                  <p:nvPr/>
                </p:nvPicPr>
                <p:blipFill>
                  <a:blip r:embed="rId2"/>
                  <a:stretch/>
                </p:blipFill>
                <p:spPr>
                  <a:xfrm>
                    <a:off x="698400" y="2214720"/>
                    <a:ext cx="762948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пула</a:t>
            </a:r>
            <a:endParaRPr b="0" lang="en-US" sz="4400" spc="-1" strike="noStrike">
              <a:solidFill>
                <a:srgbClr val="000000"/>
              </a:solidFill>
              <a:latin typeface="Comic Sans MS"/>
            </a:endParaRPr>
          </a:p>
        </p:txBody>
      </p:sp>
      <p:pic>
        <p:nvPicPr>
          <p:cNvPr id="79" name="Picture 2" descr=""/>
          <p:cNvPicPr/>
          <p:nvPr/>
        </p:nvPicPr>
        <p:blipFill>
          <a:blip r:embed="rId1"/>
          <a:stretch/>
        </p:blipFill>
        <p:spPr>
          <a:xfrm>
            <a:off x="2664000" y="2392200"/>
            <a:ext cx="3816000" cy="207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арактеристике</a:t>
            </a:r>
            <a:endParaRPr b="0" lang="en-US" sz="4400" spc="-1" strike="noStrike">
              <a:solidFill>
                <a:srgbClr val="000000"/>
              </a:solidFill>
              <a:latin typeface="Comic Sans MS"/>
            </a:endParaRPr>
          </a:p>
        </p:txBody>
      </p:sp>
      <p:sp>
        <p:nvSpPr>
          <p:cNvPr id="81" name="Rectangle 1"/>
          <p:cNvSpPr/>
          <p:nvPr/>
        </p:nvSpPr>
        <p:spPr>
          <a:xfrm>
            <a:off x="928800" y="3079080"/>
            <a:ext cx="72151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Све ињекције морају да испуне следеће услов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1) да буду стерилн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2) да буду апирогене (да не изазивају пораст температуре после убризгавањ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ea typeface="Times New Roman"/>
              </a:rPr>
              <a:t>3) да им је пХ од 5 до 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4) да у њима нема хипотензивних материј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описивање</a:t>
            </a:r>
            <a:endParaRPr b="0" lang="en-US" sz="4400" spc="-1" strike="noStrike">
              <a:solidFill>
                <a:srgbClr val="000000"/>
              </a:solidFill>
              <a:latin typeface="Comic Sans MS"/>
            </a:endParaRPr>
          </a:p>
        </p:txBody>
      </p:sp>
      <p:sp>
        <p:nvSpPr>
          <p:cNvPr id="83" name="Rectangle 1"/>
          <p:cNvSpPr/>
          <p:nvPr/>
        </p:nvSpPr>
        <p:spPr>
          <a:xfrm>
            <a:off x="214200" y="2657880"/>
            <a:ext cx="8715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Rp.</a:t>
            </a: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 Amikacin ampullae     0,5</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Da tales ampullas No X (decem)</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000000"/>
                </a:solidFill>
                <a:latin typeface="Times New Roman"/>
                <a:ea typeface="Times New Roman"/>
              </a:rPr>
              <a:t>	</a:t>
            </a:r>
            <a:r>
              <a:rPr b="0" lang="sr-Latn-CS" sz="3600" spc="-1" strike="noStrike">
                <a:solidFill>
                  <a:srgbClr val="000000"/>
                </a:solidFill>
                <a:latin typeface="Times New Roman"/>
                <a:ea typeface="Times New Roman"/>
              </a:rPr>
              <a:t>S. Ad manum medic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Кортикостероиди</a:t>
            </a:r>
            <a:endParaRPr b="0" lang="en-US" sz="4400" spc="-1" strike="noStrike">
              <a:solidFill>
                <a:srgbClr val="000000"/>
              </a:solidFill>
              <a:latin typeface="Comic Sans MS"/>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и остали гликокортикоиди као липофилне супстанце лако дифундују кроз мембрану ћелија на које делују. У њиховој цитоплазми налази се </a:t>
            </a:r>
            <a:r>
              <a:rPr b="1" lang="ru-RU" sz="2000" spc="-1" strike="noStrike">
                <a:solidFill>
                  <a:srgbClr val="ff0000"/>
                </a:solidFill>
                <a:latin typeface="Comic Sans MS"/>
              </a:rPr>
              <a:t>рецептор</a:t>
            </a:r>
            <a:r>
              <a:rPr b="0" lang="ru-RU" sz="2000" spc="-1" strike="noStrike">
                <a:solidFill>
                  <a:srgbClr val="000000"/>
                </a:solidFill>
                <a:latin typeface="Comic Sans MS"/>
              </a:rPr>
              <a:t> за кортизол који је у стању мировања везан за два молекула тзв. </a:t>
            </a:r>
            <a:r>
              <a:rPr b="0" lang="en-US" sz="2000" spc="-1" strike="noStrike">
                <a:solidFill>
                  <a:srgbClr val="000000"/>
                </a:solidFill>
                <a:latin typeface="Comic Sans MS"/>
              </a:rPr>
              <a:t>heat-shock</a:t>
            </a:r>
            <a:r>
              <a:rPr b="0" lang="ru-RU" sz="2000" spc="-1" strike="noStrike">
                <a:solidFill>
                  <a:srgbClr val="000000"/>
                </a:solidFill>
                <a:latin typeface="Comic Sans MS"/>
              </a:rPr>
              <a:t> протеина (протеин врелина-шок) који се означава са Хсп90. Доласком кортизола, Хсп90 дисосује са рецептора, и кортизол се везује за њега. Комплекс кортизол-рецептор затим одлази у једро и везује се за промотере једног броја гена. Везивањем за промотере ови комплекси заправо активирају транскрипцију тих гена, тј. њихову експресију. </a:t>
            </a:r>
            <a:endParaRPr b="0" lang="en-US" sz="2000" spc="-1" strike="noStrike">
              <a:solidFill>
                <a:srgbClr val="000000"/>
              </a:solidFill>
              <a:latin typeface="Comic Sans MS"/>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Пошто делује кроз експресију гена и де ново синтезу протеина, клинички се ефекти кортизола испољавају тек после латентног периода од око 30 минута; за пуно испољавање ефеката потребно је и до 24 </a:t>
            </a:r>
            <a:r>
              <a:rPr b="0" lang="sr-CS" sz="2000" spc="-1" strike="noStrike">
                <a:solidFill>
                  <a:srgbClr val="000000"/>
                </a:solidFill>
                <a:latin typeface="Comic Sans MS"/>
              </a:rPr>
              <a:t>часа</a:t>
            </a:r>
            <a:r>
              <a:rPr b="0" lang="ru-RU" sz="2000" spc="-1" strike="noStrike">
                <a:solidFill>
                  <a:srgbClr val="000000"/>
                </a:solidFill>
                <a:latin typeface="Comic Sans MS"/>
              </a:rPr>
              <a:t>.</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чки ефекти кортикостероида</a:t>
            </a:r>
            <a:endParaRPr b="0" lang="en-US" sz="4400" spc="-1" strike="noStrike">
              <a:solidFill>
                <a:srgbClr val="000000"/>
              </a:solidFill>
              <a:latin typeface="Comic Sans MS"/>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Кортизол инхибира гликолизу, повећава синтезу гликогена у фази гладовања, интензификује гликонеогенезу у јетри и повећава ниво глукозе у крви.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акође поспешује липолизу и протеолизу у мишићном и масном ткиву повећавајући допремање слободних масних киселина и аминокиселина до јетре. </a:t>
            </a:r>
            <a:endParaRPr b="0" lang="en-US" sz="2400" spc="-1" strike="noStrike">
              <a:solidFill>
                <a:srgbClr val="000000"/>
              </a:solidFill>
              <a:latin typeface="Comic Sans M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врха деловања кортизола у периоду између два оброка је да обезбеди довољне количине глукозе у крви потребне за исхрану мозга.</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а) </a:t>
            </a:r>
            <a:r>
              <a:rPr b="1" lang="sr-CS" sz="2000" spc="-1" strike="noStrike">
                <a:solidFill>
                  <a:srgbClr val="000000"/>
                </a:solidFill>
                <a:latin typeface="Comic Sans MS"/>
              </a:rPr>
              <a:t>антиинфламаторно</a:t>
            </a:r>
            <a:r>
              <a:rPr b="0" lang="sr-CS" sz="2000" spc="-1" strike="noStrike">
                <a:solidFill>
                  <a:srgbClr val="000000"/>
                </a:solidFill>
                <a:latin typeface="Comic Sans MS"/>
              </a:rPr>
              <a:t> (блокира фосфолипазу А</a:t>
            </a:r>
            <a:r>
              <a:rPr b="0" lang="sr-CS" sz="2000" spc="-1" strike="noStrike" baseline="-25000">
                <a:solidFill>
                  <a:srgbClr val="000000"/>
                </a:solidFill>
                <a:latin typeface="Comic Sans MS"/>
              </a:rPr>
              <a:t>2</a:t>
            </a:r>
            <a:r>
              <a:rPr b="0" lang="sr-CS" sz="2000" spc="-1" strike="noStrike">
                <a:solidFill>
                  <a:srgbClr val="000000"/>
                </a:solidFill>
                <a:latin typeface="Comic Sans MS"/>
              </a:rPr>
              <a:t> која омогућава синтезу простагландина и леукотриена; смањује експресију (синтезу) циклооксигеназе ИИ) која је неопходна за синтезу простагландина; инхибира ослобађање инфламаторних медијатора из мастоцита и еозинофила; инхибира активност адхезивних молекула на ендотелним ћелијама помоћу којих леукоцити излазе из капилар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б</a:t>
            </a:r>
            <a:r>
              <a:rPr b="1" lang="sr-CS" sz="2000" spc="-1" strike="noStrike">
                <a:solidFill>
                  <a:srgbClr val="000000"/>
                </a:solidFill>
                <a:latin typeface="Comic Sans MS"/>
              </a:rPr>
              <a:t>) антиедематозно</a:t>
            </a:r>
            <a:r>
              <a:rPr b="0" lang="sr-CS" sz="2000" spc="-1" strike="noStrike">
                <a:solidFill>
                  <a:srgbClr val="000000"/>
                </a:solidFill>
                <a:latin typeface="Comic Sans MS"/>
              </a:rPr>
              <a:t> (смањује пропустљивост капилара тако што смањује ослобађање хистамина из базофила и мастоцита)</a:t>
            </a:r>
            <a:endParaRPr b="0" lang="en-US" sz="2000" spc="-1" strike="noStrike">
              <a:solidFill>
                <a:srgbClr val="000000"/>
              </a:solidFill>
              <a:latin typeface="Comic Sans M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ц) </a:t>
            </a:r>
            <a:r>
              <a:rPr b="1" lang="sr-CS" sz="2000" spc="-1" strike="noStrike">
                <a:solidFill>
                  <a:srgbClr val="000000"/>
                </a:solidFill>
                <a:latin typeface="Comic Sans MS"/>
              </a:rPr>
              <a:t>имуносупресивно</a:t>
            </a:r>
            <a:r>
              <a:rPr b="0" lang="sr-CS" sz="2000" spc="-1" strike="noStrike">
                <a:solidFill>
                  <a:srgbClr val="000000"/>
                </a:solidFill>
                <a:latin typeface="Comic Sans MS"/>
              </a:rPr>
              <a:t> (инхибира активност Т-помоћничких лимфоцита, спречава синтезу и ослобађање интерлеукина 1 до 6, у великим дозама смањује стварање антитела)</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Остали ефекти кортикостероида</a:t>
            </a:r>
            <a:endParaRPr b="0" lang="en-US" sz="4400" spc="-1" strike="noStrike">
              <a:solidFill>
                <a:srgbClr val="000000"/>
              </a:solidFill>
              <a:latin typeface="Comic Sans MS"/>
            </a:endParaRPr>
          </a:p>
        </p:txBody>
      </p:sp>
      <p:sp>
        <p:nvSpPr>
          <p:cNvPr id="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д) </a:t>
            </a:r>
            <a:r>
              <a:rPr b="1" lang="sr-CS" sz="2000" spc="-1" strike="noStrike">
                <a:solidFill>
                  <a:srgbClr val="000000"/>
                </a:solidFill>
                <a:latin typeface="Comic Sans MS"/>
              </a:rPr>
              <a:t>антинеопластично</a:t>
            </a:r>
            <a:r>
              <a:rPr b="0" lang="sr-CS" sz="2000" spc="-1" strike="noStrike">
                <a:solidFill>
                  <a:srgbClr val="000000"/>
                </a:solidFill>
                <a:latin typeface="Comic Sans MS"/>
              </a:rPr>
              <a:t> (смањује број патолошких лимфоцит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е) </a:t>
            </a:r>
            <a:r>
              <a:rPr b="1" lang="sr-CS" sz="2000" spc="-1" strike="noStrike">
                <a:solidFill>
                  <a:srgbClr val="000000"/>
                </a:solidFill>
                <a:latin typeface="Comic Sans MS"/>
              </a:rPr>
              <a:t>смањење броја лимфоцита</a:t>
            </a:r>
            <a:r>
              <a:rPr b="0" lang="sr-CS" sz="2000" spc="-1" strike="noStrike">
                <a:solidFill>
                  <a:srgbClr val="000000"/>
                </a:solidFill>
                <a:latin typeface="Comic Sans MS"/>
              </a:rPr>
              <a:t>, еозинофила, базофила и моноцита, а пораст броја неутрофила, тромбоцита и еритроцита у крви</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ф) </a:t>
            </a:r>
            <a:r>
              <a:rPr b="1" lang="sr-CS" sz="2000" spc="-1" strike="noStrike">
                <a:solidFill>
                  <a:srgbClr val="000000"/>
                </a:solidFill>
                <a:latin typeface="Comic Sans MS"/>
              </a:rPr>
              <a:t>катаболички</a:t>
            </a:r>
            <a:r>
              <a:rPr b="0" lang="sr-CS" sz="2000" spc="-1" strike="noStrike">
                <a:solidFill>
                  <a:srgbClr val="000000"/>
                </a:solidFill>
                <a:latin typeface="Comic Sans MS"/>
              </a:rPr>
              <a:t> делује на везивно ткиво, кожу, коштано ткиво, мишиће и масно ткиво</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rPr>
              <a:t>г) повећана концентрација кортизола у крви у почетку доводи до </a:t>
            </a:r>
            <a:r>
              <a:rPr b="1" lang="sr-CS" sz="2000" spc="-1" strike="noStrike">
                <a:solidFill>
                  <a:srgbClr val="000000"/>
                </a:solidFill>
                <a:latin typeface="Comic Sans MS"/>
              </a:rPr>
              <a:t>несанице и еуфорије</a:t>
            </a:r>
            <a:r>
              <a:rPr b="0" lang="sr-CS" sz="2000" spc="-1" strike="noStrike">
                <a:solidFill>
                  <a:srgbClr val="000000"/>
                </a:solidFill>
                <a:latin typeface="Comic Sans MS"/>
              </a:rPr>
              <a:t>, а касније до депресије; изузетно велике дозе гликокортикоида могу довести до пораста интракранијалног притиска</a:t>
            </a:r>
            <a:endParaRPr b="0" lang="en-US" sz="2000" spc="-1" strike="noStrike">
              <a:solidFill>
                <a:srgbClr val="000000"/>
              </a:solidFill>
              <a:latin typeface="Comic Sans MS"/>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х) кортизол је неопходан за нормално сазревање сурфактанта у плућима фетуса, за време последњих недеља гестације.</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парати кортикостероида</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Мада се и кортизол користи као лек (хидрокортизон), синтетисан је велики број препарата са гликокортикоидним деловањем. Највише се користе: преднизолон (4 пута јачи од кортизола) орално, метилпреднизолон (5 пута јачи од кортизола) орално и парентерално, дексаметазон (40 пута јачи од кортизола, нема минералокортикоидно дејство) орално и парентерално, беклометазон и флунизолид (само у виду аеросола, за лечење астме).</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Метаболизам</a:t>
            </a:r>
            <a:endParaRPr b="0" lang="en-US" sz="4400" spc="-1" strike="noStrike">
              <a:solidFill>
                <a:srgbClr val="000000"/>
              </a:solidFill>
              <a:latin typeface="Comic Sans MS"/>
            </a:endParaRPr>
          </a:p>
        </p:txBody>
      </p:sp>
      <p:sp>
        <p:nvSpPr>
          <p:cNvPr id="5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mic Sans MS"/>
              </a:rPr>
              <a:t>Кортизол је у крви највећим делом везан за алфа</a:t>
            </a:r>
            <a:r>
              <a:rPr b="0" lang="ru-RU" sz="2000" spc="-1" strike="noStrike" baseline="-25000">
                <a:solidFill>
                  <a:srgbClr val="000000"/>
                </a:solidFill>
                <a:latin typeface="Comic Sans MS"/>
              </a:rPr>
              <a:t>2</a:t>
            </a:r>
            <a:r>
              <a:rPr b="0" lang="ru-RU" sz="2000" spc="-1" strike="noStrike">
                <a:solidFill>
                  <a:srgbClr val="000000"/>
                </a:solidFill>
                <a:latin typeface="Comic Sans MS"/>
              </a:rPr>
              <a:t>-глобулин (90%), а остатак је делом везан за албумин, а делом слободан. Само слободни кортизол је активан, док се везани део понаша као депо кортизола, који је у равнотежи са слободним. Време полу-елиминације кортизола је 60-90 минута; највећи део кортизола се у јетри редукује до тетрахидрокортизола и тетрахидрокортизона, затим коњугује и излучује у урину. Кортизол се у бубрегу под дејством 11 бета-хидроксистероид дехидрогеназе претвара у кортизон, који не делује на рецепторе за алдостерон; када тај ензим не би био активан, онда би кортизол испољавао јако минералокортикоидно деловање и доводио до ретенције натријума. Неки биљни лекови (нпр. препарати направљени од сладића, </a:t>
            </a:r>
            <a:r>
              <a:rPr b="0" lang="pl-PL" sz="2000" spc="-1" strike="noStrike">
                <a:solidFill>
                  <a:srgbClr val="000000"/>
                </a:solidFill>
                <a:latin typeface="Comic Sans MS"/>
              </a:rPr>
              <a:t>Glycyrrhiza glabra</a:t>
            </a:r>
            <a:r>
              <a:rPr b="0" lang="ru-RU" sz="2000" spc="-1" strike="noStrike">
                <a:solidFill>
                  <a:srgbClr val="000000"/>
                </a:solidFill>
                <a:latin typeface="Comic Sans MS"/>
              </a:rPr>
              <a:t>) могу да инхибирају овај ензим, чиме постижу минералокортикоидни ефекат.</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овећавају секрецију киселине у желуцу,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доводе до остеопороз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кож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психотичних манифестациј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хипертензије,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таракте и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атрофије надбубрега (због супресије ослобађања АЦТХ).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Расте ризик од инфекција гљивицама, вирусима и микобактерија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Нежељена дејства се јављају после дуже примене кортикостероида; примена до 7 дана није удружена са значајним нежељеним дејствима. </a:t>
            </a:r>
            <a:endParaRPr b="0" lang="en-US" sz="1800" spc="-1" strike="noStrike">
              <a:solidFill>
                <a:srgbClr val="000000"/>
              </a:solidFill>
              <a:latin typeface="Comic Sans MS"/>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Када се кортикостероиди примењују дуже, престанак терапије мора бити постепен, иначе може доћи до испољавања симптома и знакова инсуфицијенције коре надбубрега.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09:44:18Z</dcterms:modified>
  <cp:revision>107</cp:revision>
  <dc:subject/>
  <dc:title>Slide 1</dc:title>
</cp:coreProperties>
</file>